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whoosh.wav" ContentType="audio/x-wav"/>
  <Override PartName="/ppt/media/image3.jpeg" ContentType="image/jpeg"/>
  <Override PartName="/ppt/media/image4.png" ContentType="image/pn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52000" y="684360"/>
            <a:ext cx="45579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8AE6CDE9-7EE6-4EBB-8CF2-97332129A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duce short term extinction ri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Supplementation may be used to reduce the risk that a population on the verge of extirpation will be lost by expeditiously boosting the number of emigrating juveniles in a given brood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eserve population while factors for decline are being addres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Supplementation may be used to preserve or increase summer chum salmon populations while other factors causing decreased abundances are add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peed recover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pplementation may be used to accelerate recovery of populations by increasing abundances in a shorter time frame than may be achievable through natural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tablish a reserve population for use if the natural population suffers a catastrophic los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pplementation programs may be used to create an additional reservoir for a particular summer chum genome to prevent loss of the entire population due to natural or anthropogenic catastrop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seed vacant habitat capable of supporting salm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mmer chum salmon may be reintroduced to streams where populations have been extirpated and the causes of extirpation are being add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vide scientific information regarding the use of supplementation in conserving natural population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Valuable information indicating the effectiveness and effects of supplementation in recovering summer chum salmon can be col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1E25-3529-44AA-80C6-0FA714A2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0D2C-A39D-4F65-A6A5-76463C79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697-5FA6-4A49-806A-607B6F43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53FC-BDD2-4223-9351-7280F33C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80768-035A-4899-AC0F-17D2F678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BC333-A51D-4A36-842D-75EE8B78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D56DE-68C8-499E-8173-08693A62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B5775-DF2D-4A37-AEEF-CD7D68E9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9EADB-293F-4F20-9E1E-CAD737C9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FA4C6-D125-4F23-A9DF-7ECF5743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FE16D-6140-48D8-87DC-7E2D4D0D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722-004B-47C5-9C85-44FBFF8E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3020E-D35E-4B9C-8E2B-6DBEA6EE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CF710-F464-4EBA-A6F1-2C619B70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38CD0-38C1-4BA2-B7AD-E0AAF609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428EE-0F6B-466E-9DCE-CF59D4FF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B7DB8-F7DE-4DA5-A24A-5768F1BA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F2B-27E8-4FA1-9DE3-6D2FC024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845-7E7F-4EF9-BD98-8F8869CE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1C0-CC30-4648-926C-41D7B5EE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3E1-E11E-48CA-9061-0C39E521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1A1-E505-4021-92E1-46FFDFDA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6E47-7508-4068-A692-CE8EAA55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7133-B9C0-46C0-8F06-08C9095B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845C-10A2-4269-876F-316EF06107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5E6D-E16C-4F7A-BA1C-F023A737DE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a.gov/wdfw/fish/chum/chum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ddressing the Potential Effec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f Hatchery Interaction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n the ESA-listed Species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od Canal (Washington) Summer Chum Salm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809880"/>
            <a:ext cx="6782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 Tyn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AA Fisher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ris Well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int No Point Treaty Counc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om H. Johns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shington Department of Fish and Wild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43600" y="449568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562720" y="3733920"/>
            <a:ext cx="685800" cy="668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705720" y="5486400"/>
            <a:ext cx="682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isk Ratings for Competition and Behavioral Modific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Ris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no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rt of a formal recovery program, unable to remove &gt;90% of returning hatchery chinook, coho, fall chum or pink spawners (i.e., risk of redd super-imposition and/or competi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fed or fed fall chum or pink fry released before Apr.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i.e., overlaps with natural outmigration tim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ease timing of hatchery fish is unknow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RATE Ris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ll chinook released from marine area netpens (i.e., potential straying of spawners into summer chum strea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k Aversion Measu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Fish Disease Trans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pply protoco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Pacific Northwest Fish Health Protection Committee (PNFHPC 1989) and Salmonid Disease Control Policy of the Fisheries Co-managers of Washington State (NWIFC and WDFW 1998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spect prior to relea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ll hatchery production by WDFW or USFWS fish pathologists to certify their disease status and health cond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066680"/>
            <a:ext cx="83818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 aversion and m&amp;e measures were specified for each hatchery program and implemented beginning in 19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st programs were rated Low risk for all categori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ation (cont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grams with High or Moderate risks implemented common measur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ayed release of fall chum or pink fry until after April 1st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o reduce risks of predator attraction or competition for food, or changes in feeding behavior or use of preferred migration areas by summer chum f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ntinued programs releasing hatchery-origin chinook or fall chum in summer chum streams, unless part of a formal recovery program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o reduce risk of competition, redd super-imposition and behavior modification with summer chum adul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follow fish health protocols and reporting requirements; 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pplied to several volunteer/coop proj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sk assessment process and implementation have generally been successf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hatchery programs have been terminated in response to concern about hatchery inter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d changes have been done with limited effect on day-to-day hatchery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complications with loadings and pond mgt, but all do-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minated programs eased up other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volunteer coop projects are now consistent with guide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tchery interactions measures have been incorporated in hatchery ESA 4(d) rule issued by NOAA Fisher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ottom 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isks to summer chum are reduc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ESA listings and concerns for recovery of wild popl’ns, there is increasing focus on potential interactions b/w hatchery and wild f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and Tribal Co-managers in Washington decided to 1) identify potential negative impacts of hatcheries on ESA-listed summer chum salmon and 2) identify mitigative measures to minimize any risks to summer ch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describe here the approach used and report on initial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ch 1999, ESA listing of Hood Canal summer chum salmon Evolutionarily Sig. Unit (ES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April 2000, Co-managers completed the “Summer Chum Salmon Conservation Initiative, An Implementation Plan to Recover Summer Chum in the Hood Canal and Strait of Juan de Fuca Regio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wa.gov/wdfw/fish/chum/chum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2002, ESA 4(d) rule requirements incorporated the hatchery conservation measures identified in the SCSCI (i.e., Resource Mgt Plan – RM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98600" y="152280"/>
            <a:ext cx="5275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ckground (cont.)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of hatcheries is long-standing and important in the Hood Canal region with WDFW, Tribal, and USFWS facilities, and cooperative projects by volunteer fish enhancement group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tchery objectives include providing surplus fish for harvest, mitigation for fish production losses due to habitat degradation, and wild salmonid stock reco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r chinook, coho, chum, and pink salmon and steelhead; trout also, but not discussed 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91600"/>
            <a:ext cx="8915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ssessing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Potential Risk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of Hatchery Activities on Summer Ch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laid summer chum life history with release/migration timing of hatchery f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rect impac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is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physical operation of hatcher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cological impac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interactions b/w hatchery fish and summer chum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is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predation, competition/behavior modification, fish disease transf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85800" y="380880"/>
          <a:ext cx="7924680" cy="647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880"/>
                    <a:ext cx="792468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neral Approa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762120"/>
            <a:ext cx="8382240" cy="70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ratings for each risk categor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ied appropriate risk aversion (r.a.) measures for each risk categ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ied monitoring/evaluation (m&amp;e) measures to help make sure the risk aversion measures were implemented successfu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, rated risks of each hatchery program and identified the r.a. and m&amp;e measures needed to reduce any moderate or high risk to a low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isk Rating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Hatchery Operation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IGH risk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oodstock trap on summer chum strea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ot checked 2X a day or hold chum for &gt;24 hrs or not handled proper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intakes/outlets are not screen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withdrawal reduces flows w/ negative impact on summer chum str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 of compliance with NPDES perm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1:12:48Z</dcterms:created>
  <dc:creator>TynanT</dc:creator>
  <dc:description/>
  <dc:language>en-US</dc:language>
  <cp:lastModifiedBy>Bob Smith</cp:lastModifiedBy>
  <dcterms:modified xsi:type="dcterms:W3CDTF">2004-03-19T17:19:24Z</dcterms:modified>
  <cp:revision>160</cp:revision>
  <dc:subject/>
  <dc:title>Supplementation Standards for Rebuilding Hood Canal Summer Chum Populations</dc:title>
</cp:coreProperties>
</file>